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1E36-80CA-4F6A-AA4C-E75A441A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839-69EB-4A1E-AFE5-6302D477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E818-6DDC-4C00-8C45-BFDCCA77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CDB7-1E3C-42F8-AED3-96E6B60E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853B-AA84-4267-ACB3-E935B351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9342-5698-4C48-B6D2-A29688FD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167A-A621-4873-879E-DD4A608A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8AA-BF96-4EE8-A1D5-B1D76E92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5E14-EB8E-4575-AFC1-1BB6B717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0DF7-840B-4E63-B4CA-56B3E9DC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BFD-E756-4751-BE3F-4ABAFFFF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751-28AE-414F-8791-31B3899F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.Н. Дудина, ГОУ СОШ № 2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DAF9-8855-4766-A02A-0CE1943833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image" Target="../media/image6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429000" y="63244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 rot="10672800">
            <a:off x="223560" y="117468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304920" y="380880"/>
            <a:ext cx="8305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760076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HAT DO YOU DO TO HELP YOUR FAMILY?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50000">
                    <a:srgbClr val="760076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8229600" y="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8381880" y="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8381880" y="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7872480" y="0"/>
            <a:ext cx="12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0" descr="opekaspb.ru.jpeg"/>
          <p:cNvPicPr/>
          <p:nvPr/>
        </p:nvPicPr>
        <p:blipFill>
          <a:blip r:embed="rId1"/>
          <a:stretch/>
        </p:blipFill>
        <p:spPr>
          <a:xfrm>
            <a:off x="1596960" y="1822320"/>
            <a:ext cx="5956200" cy="4359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repair one’s b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велосипед"/>
          <p:cNvPicPr/>
          <p:nvPr/>
        </p:nvPicPr>
        <p:blipFill>
          <a:blip r:embed="rId1"/>
          <a:stretch/>
        </p:blipFill>
        <p:spPr>
          <a:xfrm>
            <a:off x="1295280" y="1371600"/>
            <a:ext cx="655344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7848720" y="0"/>
            <a:ext cx="15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971800" y="228600"/>
            <a:ext cx="48006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Console"/>
              </a:rPr>
              <a:t>Find a friend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Console"/>
              <a:ea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Console"/>
              </a:rPr>
              <a:t>who..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Console"/>
              <a:ea typeface="Lucida Console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057400" y="1905120"/>
          <a:ext cx="6858000" cy="4895640"/>
        </p:xfrm>
        <a:graphic>
          <a:graphicData uri="http://schemas.openxmlformats.org/drawingml/2006/table">
            <a:tbl>
              <a:tblPr/>
              <a:tblGrid>
                <a:gridCol w="5281560"/>
                <a:gridCol w="1576440"/>
              </a:tblGrid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FIND A FRIEND WHO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5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de his/her bed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d the table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d the washing up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ed the phone calls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eaned the room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d the pet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tered the flowers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ok a pet for a walk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aired his/her bike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158" descr="выгул собак"/>
          <p:cNvPicPr/>
          <p:nvPr/>
        </p:nvPicPr>
        <p:blipFill>
          <a:blip r:embed="rId1"/>
          <a:stretch/>
        </p:blipFill>
        <p:spPr>
          <a:xfrm>
            <a:off x="68580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9" descr="мойка"/>
          <p:cNvPicPr/>
          <p:nvPr/>
        </p:nvPicPr>
        <p:blipFill>
          <a:blip r:embed="rId2"/>
          <a:stretch/>
        </p:blipFill>
        <p:spPr>
          <a:xfrm>
            <a:off x="228600" y="990720"/>
            <a:ext cx="1104840" cy="1157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0" descr="на стол"/>
          <p:cNvPicPr/>
          <p:nvPr/>
        </p:nvPicPr>
        <p:blipFill>
          <a:blip r:embed="rId3"/>
          <a:stretch/>
        </p:blipFill>
        <p:spPr>
          <a:xfrm>
            <a:off x="152280" y="304812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1" descr="telefon"/>
          <p:cNvPicPr/>
          <p:nvPr/>
        </p:nvPicPr>
        <p:blipFill>
          <a:blip r:embed="rId4"/>
          <a:stretch/>
        </p:blipFill>
        <p:spPr>
          <a:xfrm>
            <a:off x="685800" y="1905120"/>
            <a:ext cx="1143000" cy="12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2" descr="47109844_mes_11819[1]"/>
          <p:cNvPicPr/>
          <p:nvPr/>
        </p:nvPicPr>
        <p:blipFill>
          <a:blip r:embed="rId5"/>
          <a:stretch/>
        </p:blipFill>
        <p:spPr>
          <a:xfrm>
            <a:off x="762120" y="5715000"/>
            <a:ext cx="1066680" cy="1028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3" descr="Кровать"/>
          <p:cNvPicPr/>
          <p:nvPr/>
        </p:nvPicPr>
        <p:blipFill>
          <a:blip r:embed="rId6"/>
          <a:stretch/>
        </p:blipFill>
        <p:spPr>
          <a:xfrm>
            <a:off x="152280" y="4876920"/>
            <a:ext cx="1128960" cy="111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4" descr="Кормить"/>
          <p:cNvPicPr/>
          <p:nvPr/>
        </p:nvPicPr>
        <p:blipFill>
          <a:blip r:embed="rId7"/>
          <a:stretch/>
        </p:blipFill>
        <p:spPr>
          <a:xfrm>
            <a:off x="762120" y="3809880"/>
            <a:ext cx="1066680" cy="10573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65"/>
          <p:cNvSpPr/>
          <p:nvPr/>
        </p:nvSpPr>
        <p:spPr>
          <a:xfrm>
            <a:off x="7920000" y="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#4_25_Ventura_Hotel california.mp3" descr=""/>
          <p:cNvPicPr/>
          <p:nvPr/>
        </p:nvPicPr>
        <p:blipFill>
          <a:blip r:embed="rId8"/>
          <a:stretch/>
        </p:blipFill>
        <p:spPr>
          <a:xfrm>
            <a:off x="86104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75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7467480" y="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777240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7680240" y="-39600"/>
            <a:ext cx="146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Кровать"/>
          <p:cNvPicPr/>
          <p:nvPr/>
        </p:nvPicPr>
        <p:blipFill>
          <a:blip r:embed="rId1"/>
          <a:stretch/>
        </p:blipFill>
        <p:spPr>
          <a:xfrm>
            <a:off x="1555920" y="1600200"/>
            <a:ext cx="621648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make one’s b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Кровать"/>
          <p:cNvPicPr/>
          <p:nvPr/>
        </p:nvPicPr>
        <p:blipFill>
          <a:blip r:embed="rId2"/>
          <a:stretch/>
        </p:blipFill>
        <p:spPr>
          <a:xfrm>
            <a:off x="1517760" y="1596960"/>
            <a:ext cx="623088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1600200" y="55990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600200" y="579132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lay th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на стол"/>
          <p:cNvPicPr/>
          <p:nvPr/>
        </p:nvPicPr>
        <p:blipFill>
          <a:blip r:embed="rId1"/>
          <a:stretch/>
        </p:blipFill>
        <p:spPr>
          <a:xfrm>
            <a:off x="1371600" y="1523880"/>
            <a:ext cx="62485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3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do the wash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мойка"/>
          <p:cNvPicPr/>
          <p:nvPr/>
        </p:nvPicPr>
        <p:blipFill>
          <a:blip r:embed="rId1"/>
          <a:stretch/>
        </p:blipFill>
        <p:spPr>
          <a:xfrm>
            <a:off x="1447920" y="1523880"/>
            <a:ext cx="6172200" cy="44960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answer phone c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telefon"/>
          <p:cNvPicPr/>
          <p:nvPr/>
        </p:nvPicPr>
        <p:blipFill>
          <a:blip r:embed="rId1"/>
          <a:stretch/>
        </p:blipFill>
        <p:spPr>
          <a:xfrm>
            <a:off x="1397160" y="1523880"/>
            <a:ext cx="6349680" cy="4383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clean the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47109844_mes_11819[1]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8047080" y="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man Old Style"/>
              </a:rPr>
              <a:t>to feed the p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Кормить"/>
          <p:cNvPicPr/>
          <p:nvPr/>
        </p:nvPicPr>
        <p:blipFill>
          <a:blip r:embed="rId1"/>
          <a:stretch/>
        </p:blipFill>
        <p:spPr>
          <a:xfrm>
            <a:off x="1295280" y="1447920"/>
            <a:ext cx="6629400" cy="44956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8047080" y="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water the flo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Цветы 2"/>
          <p:cNvPicPr/>
          <p:nvPr/>
        </p:nvPicPr>
        <p:blipFill>
          <a:blip r:embed="rId1"/>
          <a:stretch/>
        </p:blipFill>
        <p:spPr>
          <a:xfrm>
            <a:off x="1295280" y="1600200"/>
            <a:ext cx="640080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take a pet for a w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выгул собак"/>
          <p:cNvPicPr/>
          <p:nvPr/>
        </p:nvPicPr>
        <p:blipFill>
          <a:blip r:embed="rId1"/>
          <a:stretch/>
        </p:blipFill>
        <p:spPr>
          <a:xfrm>
            <a:off x="1295280" y="1447920"/>
            <a:ext cx="6477120" cy="4572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9T19:30:05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